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5E34-2DAD-445A-9853-973E98CE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CD2E-9927-4181-9A83-F2E3C47997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B77B-9446-47D8-999A-D1E23BB9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23D3-3D7C-4397-9DD4-A47B5595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5AF4-2A56-4FC3-B886-96BBDD10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BBF0-18D7-4624-8ECB-2C6DFD5A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4679-C693-4AD5-8725-2F0FC4E6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329B-FF44-4812-BBE3-8F7EB977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9947-BB65-4050-A4B0-26F496D5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ECA6-E217-4147-9976-45A69A31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471F-0676-4FDD-A333-1FC212E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BB32-ABCD-4798-9A51-6AD6BF0B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D349-AB56-4B05-876F-1E82BEC3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565B-9521-4480-A307-A9D53B94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A4E-60F9-4884-ACE2-293406B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BFD5-F1D6-4164-B4B7-7685C90A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A459-965A-4A6B-A7E2-D471DFD2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45F0-0362-48E1-A056-708B8A55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CFCA-703E-4518-B30D-EA443368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B89F-01F8-444B-AC6C-19DF724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F821-90C3-43E8-8B3C-62E2C0F7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9151-6AF2-45AC-983A-2B4759CD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17B5-23DA-4D68-A4DD-CD0A2056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50EF-04D7-4E3A-BE02-90D358B3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63A0-D58C-435E-8253-96AC53E0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86C1-E6F2-4769-804A-8B9144C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8D45-4873-4B12-A3F6-946FC9981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BRG, GMOD Europ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BioPivot: Applying Microsoft Live Labs’ Pivot to Problems in Bioinformatic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ephen Taylor, CB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Europe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Traditionall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spreadsheet of data with links to Gbrowse/UCSC region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/Filter various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d data to spreadsheet each new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Rectangle 3" descr=""/>
          <p:cNvPicPr/>
          <p:nvPr/>
        </p:nvPicPr>
        <p:blipFill>
          <a:blip r:embed="rId5"/>
          <a:stretch/>
        </p:blipFill>
        <p:spPr>
          <a:xfrm>
            <a:off x="2189160" y="4041720"/>
            <a:ext cx="4357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fdef6"/>
                </a:solidFill>
                <a:latin typeface="Arial"/>
              </a:rPr>
              <a:t>Deep Zoom T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laise Aguera y Arcas (TED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adragon/Photosy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seadragon.com/showcas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crosoft Live Labs’ 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getpivot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8"/>
          <a:stretch/>
        </p:blipFill>
        <p:spPr>
          <a:xfrm>
            <a:off x="1332000" y="2133720"/>
            <a:ext cx="3029040" cy="1850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9"/>
          <a:stretch/>
        </p:blipFill>
        <p:spPr>
          <a:xfrm>
            <a:off x="3132000" y="2565360"/>
            <a:ext cx="3071880" cy="1871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10"/>
          <a:stretch/>
        </p:blipFill>
        <p:spPr>
          <a:xfrm>
            <a:off x="5292720" y="2349360"/>
            <a:ext cx="20876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Wouldn’t it be cool.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in bioinformatics.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thousands of regions of interest of 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ew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ilter seamlessly on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FF3 of R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inth column contains ‘facet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oose your GBrowse or UCSC Browse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n the comm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ff32pivot my.gff3 –dzi –generateimages –conf mytypes.cfg -o my.cxml –browser gbrowse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sers for peakfi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tate a GFF3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arest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ns, introns, intergenic, intrage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SS/TES up and down stream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laps of GFF3/B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Open Sour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Zoomable User Interfaces (ZU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DK for Flash, Flex &amp;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Im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Colle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ups of tiled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3"/>
          <a:stretch/>
        </p:blipFill>
        <p:spPr>
          <a:xfrm>
            <a:off x="2195640" y="2421000"/>
            <a:ext cx="42638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XML Fi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769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o D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oy in a web browser using Silver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-Seq parsers e.g. cufflinks, DE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feedback from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 can we do with this te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brg.ox.ac.uk/data/bio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ualization of large numbers of genome re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rying and filtering properties of genome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vot and BioPivo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 discussion of other applications of techn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C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s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biostat.jhsph.edu/~hji/cisgenom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D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code.google.com/p/bedtool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Peo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im Hug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BR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BR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58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Over 50 different GBrowse datab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y labs started wanting GBrow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Next Generation Sequen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ne modificati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ction cis/tra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CR amplified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me Sequencing/SNP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 exam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826920" y="1484280"/>
            <a:ext cx="115272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19564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268360" y="134136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5052960" y="1335240"/>
            <a:ext cx="2712960" cy="29876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9"/>
          <p:cNvSpPr/>
          <p:nvPr/>
        </p:nvSpPr>
        <p:spPr>
          <a:xfrm>
            <a:off x="356400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0"/>
          <p:cNvSpPr/>
          <p:nvPr/>
        </p:nvSpPr>
        <p:spPr>
          <a:xfrm rot="1555800">
            <a:off x="2226960" y="242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1"/>
          <p:cNvSpPr/>
          <p:nvPr/>
        </p:nvSpPr>
        <p:spPr>
          <a:xfrm rot="1555800">
            <a:off x="363492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2" descr="porcher_chipseq"/>
          <p:cNvPicPr/>
          <p:nvPr/>
        </p:nvPicPr>
        <p:blipFill>
          <a:blip r:embed="rId2"/>
          <a:stretch/>
        </p:blipFill>
        <p:spPr>
          <a:xfrm>
            <a:off x="5108400" y="3133800"/>
            <a:ext cx="2365560" cy="2633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3"/>
          <p:cNvSpPr/>
          <p:nvPr/>
        </p:nvSpPr>
        <p:spPr>
          <a:xfrm>
            <a:off x="205092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ak p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 rot="8874600">
            <a:off x="3924000" y="41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15"/>
          <p:cNvSpPr/>
          <p:nvPr/>
        </p:nvSpPr>
        <p:spPr>
          <a:xfrm rot="5400000">
            <a:off x="3264120" y="495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414320" y="458136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ract sequences from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1987200" y="4797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tif ex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8"/>
          <p:cNvSpPr/>
          <p:nvPr/>
        </p:nvSpPr>
        <p:spPr>
          <a:xfrm rot="1214400">
            <a:off x="406692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3128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b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0" descr="CTCFlogo"/>
          <p:cNvPicPr/>
          <p:nvPr/>
        </p:nvPicPr>
        <p:blipFill>
          <a:blip r:embed="rId3"/>
          <a:stretch/>
        </p:blipFill>
        <p:spPr>
          <a:xfrm>
            <a:off x="5126040" y="5370480"/>
            <a:ext cx="30733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24000" y="1484280"/>
            <a:ext cx="115236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1619280" y="1844640"/>
            <a:ext cx="2016000" cy="48564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195640" y="1484280"/>
            <a:ext cx="113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3924360" y="3573360"/>
            <a:ext cx="194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ak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 rot="8067600">
            <a:off x="2639520" y="359676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3657600" y="1219320"/>
            <a:ext cx="235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porcher_chipseq"/>
          <p:cNvPicPr/>
          <p:nvPr/>
        </p:nvPicPr>
        <p:blipFill>
          <a:blip r:embed="rId2"/>
          <a:stretch/>
        </p:blipFill>
        <p:spPr>
          <a:xfrm>
            <a:off x="1646280" y="4316400"/>
            <a:ext cx="2724120" cy="25718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5"/>
          <p:cNvSpPr/>
          <p:nvPr/>
        </p:nvSpPr>
        <p:spPr>
          <a:xfrm rot="2681400">
            <a:off x="5667120" y="359424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12" descr="porcher_chipseq"/>
          <p:cNvPicPr/>
          <p:nvPr/>
        </p:nvPicPr>
        <p:blipFill>
          <a:blip r:embed="rId3"/>
          <a:stretch/>
        </p:blipFill>
        <p:spPr>
          <a:xfrm>
            <a:off x="5888160" y="4316400"/>
            <a:ext cx="2732040" cy="2571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4"/>
          <a:stretch/>
        </p:blipFill>
        <p:spPr>
          <a:xfrm>
            <a:off x="6372360" y="4653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5"/>
          <a:stretch/>
        </p:blipFill>
        <p:spPr>
          <a:xfrm>
            <a:off x="2771640" y="4653000"/>
            <a:ext cx="1171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al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ak finders give false 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ts of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t choose a suitable cut-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yeballing lots of p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Further Analy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ch of my peaks overlap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m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pG I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as of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3:35:49Z</dcterms:created>
  <dc:creator>STaylor</dc:creator>
  <dc:description/>
  <dc:language>en-US</dc:language>
  <cp:lastModifiedBy>GMOD / NESCent</cp:lastModifiedBy>
  <dcterms:modified xsi:type="dcterms:W3CDTF">2010-09-17T10:50:04Z</dcterms:modified>
  <cp:revision>162</cp:revision>
  <dc:subject/>
  <dc:title>Slide 1</dc:title>
</cp:coreProperties>
</file>